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8E5E-D0AE-479C-A2FE-95A7A287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9964-E705-48A1-ADB9-978B4200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EDE-CE1D-40D2-BD7F-95B411AF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A896-168C-46FE-B77E-0CD2590C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C74B-F92C-4B1F-BB5A-9E19DE0F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AF59-2FAD-4FAF-9D53-EF7017BF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F8A7-242B-4640-8BA6-AA84A162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E9A1-2EC2-48E6-B909-7EBA19EE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86C7-8EB8-4291-9F32-FD68F69A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8696-14F5-40CD-8F57-897E4D99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0D43-3585-4E01-A6EA-B5AA010A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CF4F-B176-496B-BBC5-79299B3E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C064-44AA-45F3-90D6-D3C8F177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77E0-43BC-48EE-A712-5236ACAF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E1D9-7FA8-4A69-B474-05B394C5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87D8-84BB-419A-82B4-2DFE03CC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6000-3D61-4BF6-85EE-A7D52C73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185-13BF-471F-A0B0-E40AD973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07C-1BB3-4B9D-804C-82438C0D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49FD-48D3-4472-AF2F-6682330C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7F47-B58E-4744-BDF3-648F0FD0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B077-D430-47C7-A8BC-D0AB1B75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44A4-338D-45BC-93E3-CE292EA3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5FA2-E06C-44CD-ACBC-2E560961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94CD-9C23-43CF-AEBC-5BC166BF1781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99C5-D33A-4940-B678-201C96280768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48769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00"/>
                </a:solidFill>
                <a:latin typeface="Tahoma"/>
                <a:cs typeface="????Boutros Rokaa"/>
              </a:rPr>
              <a:t>طوبى 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00"/>
                </a:solidFill>
                <a:latin typeface="Tahoma"/>
                <a:cs typeface="????Boutros Rokaa"/>
              </a:rPr>
              <a:t>للساعين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320760"/>
            <a:ext cx="79232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ّاعينَ إلـى السلامِ،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إنهم أبناءَ اللهِ يُدعَوْن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198108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سلامُ اللهِ، يحفظ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لوبَكم وأفكارَكم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الـمسيحِ يسوع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سلامُ لكم جميعاً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مُ الذينَ في الـمسيح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320760"/>
            <a:ext cx="79232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ّاعينَ إلـى السلامِ،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إنهم أبناءَ اللهِ يُدعَوْن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676520"/>
            <a:ext cx="52578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Simplified Arabic"/>
                <a:cs typeface="Akhbar MT"/>
              </a:rPr>
              <a:t>ليصفح بعضكم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Simplified Arabic"/>
                <a:cs typeface="Akhbar MT"/>
              </a:rPr>
              <a:t>عن بعضٍ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Simplified Arabic"/>
                <a:cs typeface="Akhbar MT"/>
              </a:rPr>
              <a:t>كما صفحَ اللهُ عنكم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Simplified Arabic"/>
                <a:cs typeface="Akhbar MT"/>
              </a:rPr>
              <a:t>فـي الـمسيح.</a:t>
            </a:r>
            <a:r>
              <a:rPr b="1" lang="ar-SA" sz="8200" spc="-1" strike="noStrike">
                <a:solidFill>
                  <a:srgbClr val="000000"/>
                </a:solidFill>
                <a:latin typeface="Tahoma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360" y="320760"/>
            <a:ext cx="79232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ّاعينَ إلـى السلامِ،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إنهم أبناءَ اللهِ يُدعَوْن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9" name=""/>
          <p:cNvSpPr/>
          <p:nvPr/>
        </p:nvSpPr>
        <p:spPr>
          <a:xfrm>
            <a:off x="0" y="204804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إذهَبْ وصالِحْ أخاكَ ثمَّ عُدْ وقرِّبْ قربانَك</a:t>
            </a:r>
            <a:endParaRPr b="0" lang="en-US" sz="10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320760"/>
            <a:ext cx="79232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ّاعينَ إلـى السلامِ،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إنهم أبناءَ اللهِ يُدعَوْن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33:44Z</dcterms:created>
  <dc:creator>Charbel Azar</dc:creator>
  <dc:description/>
  <dc:language>en-US</dc:language>
  <cp:lastModifiedBy>Charbel Azar</cp:lastModifiedBy>
  <dcterms:modified xsi:type="dcterms:W3CDTF">2006-03-07T21:42:12Z</dcterms:modified>
  <cp:revision>11</cp:revision>
  <dc:subject/>
  <dc:title>PowerPoint Presentation</dc:title>
</cp:coreProperties>
</file>